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863-F7C4-4DD7-A9D7-4E351359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B55-C5EB-49C0-A9EE-30AB4BC4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E05-E272-4644-B527-1A39A73A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13D-FEC2-479E-A13F-107C06AC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D3D-AAFC-4600-9FDA-8128E43B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631-8B6C-4B59-8F55-5B5DB598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6AB-FB5B-4F8F-985E-15F0C943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12A-62FB-45DE-814F-CC40CD15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672-F409-4BC3-9982-6C1B3DAD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808-8343-41B7-A9C3-1A50D96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950-7EDB-4FD4-88C5-3285AFF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55F-0856-4C5C-BE14-ADC23780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E561-329D-4F5D-9DE0-9EEABF80A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baer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838080"/>
            <a:ext cx="49528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ideo Game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5253120"/>
            <a:ext cx="426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eb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20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00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Baer"/>
          <p:cNvPicPr/>
          <p:nvPr/>
        </p:nvPicPr>
        <p:blipFill>
          <a:blip r:embed="rId1"/>
          <a:stretch/>
        </p:blipFill>
        <p:spPr>
          <a:xfrm>
            <a:off x="762120" y="914400"/>
            <a:ext cx="5410080" cy="1670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4724280"/>
            <a:ext cx="5715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lph Ba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16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ba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alph Ba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lph Baer was born in Germany 3/8/19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er came to  the U.S with his family in 193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Baer’s associates created the “Light-Gu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-Gun allowed players to shoot at the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er created a two-play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er was called the “Father of home video games.”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00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Video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games are the most popular form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Brown Box” (Baer’s video game consol) was one of the first cons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arly 1950’s television sets were quickly gaining popul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75 competitive business began like Nintendo, Sony, and Microsof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7:20:50Z</dcterms:created>
  <dc:creator>install</dc:creator>
  <dc:description/>
  <dc:language>en-US</dc:language>
  <cp:lastModifiedBy>install</cp:lastModifiedBy>
  <dcterms:modified xsi:type="dcterms:W3CDTF">2011-06-01T17:37:06Z</dcterms:modified>
  <cp:revision>7</cp:revision>
  <dc:subject/>
  <dc:title>Slide 1</dc:title>
</cp:coreProperties>
</file>